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explode.wav" ContentType="audio/x-wav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suction.wav" ContentType="audio/x-wav"/>
  <Override PartName="/ppt/media/image4.gif" ContentType="image/gif"/>
  <Override PartName="/ppt/media/image1.jpeg" ContentType="image/jpeg"/>
  <Override PartName="/ppt/media/projctor.wav" ContentType="audio/x-wav"/>
  <Override PartName="/ppt/media/image17.jpeg" ContentType="image/jpeg"/>
  <Override PartName="/ppt/media/image19.png" ContentType="image/png"/>
  <Override PartName="/ppt/media/image16.jpeg" ContentType="image/jpeg"/>
  <Override PartName="/ppt/media/image3.jpeg" ContentType="image/jpeg"/>
  <Override PartName="/ppt/media/image12.gif" ContentType="image/gif"/>
  <Override PartName="/ppt/media/type.wav" ContentType="audio/x-wav"/>
  <Override PartName="/ppt/media/image14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15.gif" ContentType="image/gif"/>
  <Override PartName="/ppt/media/voltag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C05-4635-4E33-B7CD-DE255735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A2A-2CF1-4429-B627-02B471B9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143-882E-451C-9503-3C4097EC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056-7BE7-4956-94EA-DABF8FA5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5820-83A0-477D-A02F-FF372B26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9DBF-8C4E-450C-9BA2-8383186A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47EB-C188-4855-86D5-58E912F6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447A-8C5A-41EF-B19A-1B628AF3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FEC1-6714-4D83-8D73-2F5FC85D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0509-6839-4B6D-8D98-C82054FC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7320-D58B-4E0C-B826-F5FE864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1D2-1F84-4BF8-B463-29A2C5D1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6BF5-670E-438C-A934-99E6A9CC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404B-E9C2-441D-9B69-487022A9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38B-15C6-4BC7-B238-7E172170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40A9-0186-4F4F-A2F1-316CE91A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B4B1-C8E3-4364-BCE4-833003C0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1CB-B8B7-42AC-8980-6B88F637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014-D4F1-4EAD-AF1E-0BA935BF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4D2-F721-49D8-B21A-CFD230B9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B24-FBB5-4F3D-A0F4-A10D8B5F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D1F-A384-4EB8-92B2-6A78F237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554-4559-431F-9FDA-A82AC26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6FA-80D0-4AB0-980D-89037DF8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0E18-A8E1-407C-9765-BC44A1159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0F7D-C38E-48EA-B39A-97879CBCF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ighered.mcgraw-hill.com/sites/0072437316/student_view0/chapter6/animations.html" TargetMode="External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r/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vessel"/>
          <p:cNvPicPr/>
          <p:nvPr/>
        </p:nvPicPr>
        <p:blipFill>
          <a:blip r:embed="rId1"/>
          <a:stretch/>
        </p:blipFill>
        <p:spPr>
          <a:xfrm>
            <a:off x="298440" y="3772080"/>
            <a:ext cx="4745160" cy="2971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66294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5d7e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mi Head 426"/>
              </a:rPr>
              <a:t>Brainstorm: How can molecules move against their concentration gradient?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400" y="2895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d7e"/>
                </a:solidFill>
                <a:latin typeface="Arial Black"/>
              </a:rPr>
              <a:t>Need to use energ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Oval 9"/>
          <p:cNvSpPr/>
          <p:nvPr/>
        </p:nvSpPr>
        <p:spPr>
          <a:xfrm>
            <a:off x="7086600" y="4800600"/>
            <a:ext cx="1676520" cy="1676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1" descr="mad_scientist_swirling_beaker_example"/>
          <p:cNvPicPr/>
          <p:nvPr/>
        </p:nvPicPr>
        <p:blipFill>
          <a:blip r:embed="rId2"/>
          <a:stretch/>
        </p:blipFill>
        <p:spPr>
          <a:xfrm>
            <a:off x="7467480" y="5029200"/>
            <a:ext cx="857520" cy="125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brain_frying_hg_clr"/>
          <p:cNvPicPr/>
          <p:nvPr/>
        </p:nvPicPr>
        <p:blipFill>
          <a:blip r:embed="rId3"/>
          <a:stretch/>
        </p:blipFill>
        <p:spPr>
          <a:xfrm>
            <a:off x="4724280" y="2895480"/>
            <a:ext cx="472464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4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7e"/>
                </a:solidFill>
                <a:latin typeface="Hemi Head 426"/>
              </a:rPr>
              <a:t>Endocytosis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990360"/>
            <a:ext cx="350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ing material into a cell by the in folding of a membran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8" descr="endoc"/>
          <p:cNvPicPr/>
          <p:nvPr/>
        </p:nvPicPr>
        <p:blipFill>
          <a:blip r:embed="rId1"/>
          <a:stretch/>
        </p:blipFill>
        <p:spPr>
          <a:xfrm>
            <a:off x="4876920" y="990720"/>
            <a:ext cx="3962160" cy="2247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endocytosissmall"/>
          <p:cNvPicPr/>
          <p:nvPr/>
        </p:nvPicPr>
        <p:blipFill>
          <a:blip r:embed="rId2"/>
          <a:stretch/>
        </p:blipFill>
        <p:spPr>
          <a:xfrm>
            <a:off x="4876920" y="29718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7e"/>
                </a:solidFill>
                <a:latin typeface="Hemi Head 426"/>
              </a:rPr>
              <a:t>2 Types of Endocytoses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hagocytoses-  Solid particles are ingested into the cel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inocytosis – liquids taken into the c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Picture 4" descr="phago"/>
          <p:cNvPicPr/>
          <p:nvPr/>
        </p:nvPicPr>
        <p:blipFill>
          <a:blip r:embed="rId1"/>
          <a:stretch/>
        </p:blipFill>
        <p:spPr>
          <a:xfrm>
            <a:off x="4800600" y="10666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7e"/>
                </a:solidFill>
                <a:latin typeface="Hemi Head 426"/>
              </a:rPr>
              <a:t>Exocytosis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ves materials out of the cel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4" descr="budding"/>
          <p:cNvPicPr/>
          <p:nvPr/>
        </p:nvPicPr>
        <p:blipFill>
          <a:blip r:embed="rId1"/>
          <a:stretch/>
        </p:blipFill>
        <p:spPr>
          <a:xfrm>
            <a:off x="5181480" y="1143000"/>
            <a:ext cx="396252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xocytosissmall"/>
          <p:cNvPicPr/>
          <p:nvPr/>
        </p:nvPicPr>
        <p:blipFill>
          <a:blip r:embed="rId2"/>
          <a:stretch/>
        </p:blipFill>
        <p:spPr>
          <a:xfrm>
            <a:off x="762120" y="266688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Your Topic Goes Her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Black"/>
                <a:hlinkClick r:id="rId2"/>
              </a:rPr>
              <a:t>Endocyto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4" descr="mad_scientist_thinking_equation_example"/>
          <p:cNvPicPr/>
          <p:nvPr/>
        </p:nvPicPr>
        <p:blipFill>
          <a:blip r:embed="rId3"/>
          <a:stretch/>
        </p:blipFill>
        <p:spPr>
          <a:xfrm>
            <a:off x="304920" y="838080"/>
            <a:ext cx="114300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molecule"/>
          <p:cNvPicPr/>
          <p:nvPr/>
        </p:nvPicPr>
        <p:blipFill>
          <a:blip r:embed="rId4"/>
          <a:stretch/>
        </p:blipFill>
        <p:spPr>
          <a:xfrm>
            <a:off x="6553080" y="5362560"/>
            <a:ext cx="2438640" cy="137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molecule"/>
          <p:cNvPicPr/>
          <p:nvPr/>
        </p:nvPicPr>
        <p:blipFill>
          <a:blip r:embed="rId1"/>
          <a:stretch/>
        </p:blipFill>
        <p:spPr>
          <a:xfrm>
            <a:off x="2819520" y="4267080"/>
            <a:ext cx="3276360" cy="1843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06768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5d7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mi Head 426"/>
              </a:rPr>
              <a:t>Transitional Page</a:t>
            </a:r>
            <a:endParaRPr b="0" lang="en-US" sz="48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057040" y="56386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3657600" y="1828800"/>
            <a:ext cx="1600200" cy="1600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d_scientist_head_inquisitive_example"/>
          <p:cNvPicPr/>
          <p:nvPr/>
        </p:nvPicPr>
        <p:blipFill>
          <a:blip r:embed="rId2"/>
          <a:stretch/>
        </p:blipFill>
        <p:spPr>
          <a:xfrm>
            <a:off x="3962520" y="2133720"/>
            <a:ext cx="1028520" cy="9712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5200560" y="685800"/>
            <a:ext cx="3124440" cy="1527120"/>
          </a:xfrm>
          <a:prstGeom prst="wedgeRectCallout">
            <a:avLst>
              <a:gd name="adj1" fmla="val -53810"/>
              <a:gd name="adj2" fmla="val 747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257800" y="6858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’t forget to study for your tes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Mad Scient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3" name="type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ction Jackson"/>
              </a:rPr>
              <a:t>Active and Passive Transport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ction Jackson"/>
              </a:rPr>
              <a:t>I Love Sci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@ </a:t>
            </a: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2006-All Rights Reserv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ctor Azul"/>
              </a:rPr>
              <a:t>Iteachbio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Doctor Azul"/>
              </a:rPr>
              <a:t>mac.co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What is the other name for the CMB?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uid Mosaic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5" descr="Fluidmem"/>
          <p:cNvPicPr/>
          <p:nvPr/>
        </p:nvPicPr>
        <p:blipFill>
          <a:blip r:embed="rId1"/>
          <a:stretch/>
        </p:blipFill>
        <p:spPr>
          <a:xfrm>
            <a:off x="3962520" y="1295280"/>
            <a:ext cx="518148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96" name="Picture 7" descr="Diffuse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cell2"/>
          <p:cNvPicPr/>
          <p:nvPr/>
        </p:nvPicPr>
        <p:blipFill>
          <a:blip r:embed="rId1"/>
          <a:stretch/>
        </p:blipFill>
        <p:spPr>
          <a:xfrm>
            <a:off x="228600" y="685800"/>
            <a:ext cx="89154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7e"/>
                </a:solidFill>
                <a:latin typeface="Hemi Head 426"/>
              </a:rPr>
              <a:t>Passive Transport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es osmosis or diffusion require energ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 them move along a concentration gradi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13" descr="RBCanim1"/>
          <p:cNvPicPr/>
          <p:nvPr/>
        </p:nvPicPr>
        <p:blipFill>
          <a:blip r:embed="rId1"/>
          <a:stretch/>
        </p:blipFill>
        <p:spPr>
          <a:xfrm>
            <a:off x="3809880" y="1219320"/>
            <a:ext cx="5105520" cy="487656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suction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Facilitated Diffusion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http://p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cilitated Diffusion- molecules move down a concentration gradient with the aid of special protein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114264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4" descr="FacilitR2"/>
          <p:cNvPicPr/>
          <p:nvPr/>
        </p:nvPicPr>
        <p:blipFill>
          <a:blip r:embed="rId2"/>
          <a:stretch/>
        </p:blipFill>
        <p:spPr>
          <a:xfrm>
            <a:off x="4572000" y="1143000"/>
            <a:ext cx="4572000" cy="510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7e"/>
                </a:solidFill>
                <a:latin typeface="Hemi Head 426"/>
              </a:rPr>
              <a:t>Active Transport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quires Ener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ves against the concentration gradi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09720" y="114264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7" descr="ActiveR2"/>
          <p:cNvPicPr/>
          <p:nvPr/>
        </p:nvPicPr>
        <p:blipFill>
          <a:blip r:embed="rId1"/>
          <a:stretch/>
        </p:blipFill>
        <p:spPr>
          <a:xfrm>
            <a:off x="4876920" y="12193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20:14:04Z</dcterms:created>
  <dc:creator>Lindenhurst</dc:creator>
  <dc:description/>
  <dc:language>en-US</dc:language>
  <cp:lastModifiedBy>Morgan karas</cp:lastModifiedBy>
  <dcterms:modified xsi:type="dcterms:W3CDTF">2010-12-06T19:20:03Z</dcterms:modified>
  <cp:revision>6</cp:revision>
  <dc:subject/>
  <dc:title>Brainstorm: How can molecules move against their concentration gradient?</dc:title>
</cp:coreProperties>
</file>